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74C-D5D1-4FDA-A099-E75E5383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A87-8801-4537-A67D-A15D3505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05A-8294-4BCA-9E02-66489E28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1591-A30D-4A0D-B220-D1C90647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F58-5685-48BD-A5B9-81EFAAD8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435-7B53-4783-981F-3DAEDE07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444-17BA-4CB3-8BEA-CE35CBF0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785-1CD3-43C0-8523-84CF6994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B409-F75C-4B3C-9673-C2113F1F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390-F044-4537-95F4-CB385D37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CD8-7DFF-4D66-A7D7-0BC3F0B1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F6B-D0FB-4BA1-8EA1-8F819D73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D5FD-F9B1-4596-87AF-C46C83525A3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00040" y="768240"/>
            <a:ext cx="8001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py and complete the tab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47840" y="1981080"/>
            <a:ext cx="82483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3246480" cy="285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072040" y="428760"/>
            <a:ext cx="3387600" cy="306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2786040" y="4357800"/>
            <a:ext cx="43578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1627200"/>
            <a:ext cx="9144000" cy="508788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500040" y="35712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  <a:ea typeface="Arial"/>
              </a:rPr>
              <a:t>Achieved with Excellence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1214280"/>
            <a:ext cx="9182160" cy="5500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500040" y="35712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  <a:ea typeface="Arial"/>
              </a:rPr>
              <a:t>Achieved with Excellence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2840" y="1528920"/>
            <a:ext cx="9058320" cy="5114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00040" y="35712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  <a:ea typeface="Arial"/>
              </a:rPr>
              <a:t>Achieved with Meri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42840" y="1224000"/>
            <a:ext cx="9058320" cy="5419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00040" y="35712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  <a:ea typeface="Arial"/>
              </a:rPr>
              <a:t>Achieved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33480" y="1738440"/>
            <a:ext cx="9077040" cy="4905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500040" y="35712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T</a:t>
            </a:r>
            <a:r>
              <a:rPr b="0" lang="en-NZ" sz="4000" spc="-1" strike="noStrike">
                <a:solidFill>
                  <a:srgbClr val="ffffff"/>
                </a:solidFill>
                <a:latin typeface="Arial"/>
                <a:ea typeface="Arial"/>
              </a:rPr>
              <a:t> Achieved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05:56:48Z</dcterms:created>
  <dc:creator>Dave</dc:creator>
  <dc:description/>
  <dc:language>en-US</dc:language>
  <cp:lastModifiedBy>Ministry of Education</cp:lastModifiedBy>
  <dcterms:modified xsi:type="dcterms:W3CDTF">2012-02-15T20:33:54Z</dcterms:modified>
  <cp:revision>46</cp:revision>
  <dc:subject/>
  <dc:title>Waves</dc:title>
</cp:coreProperties>
</file>